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46D7-E660-404A-BB39-D16DA710C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E160-BBC9-422B-9BE6-E13269443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992C-5E21-4017-82D1-734A1478C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0E87-32FD-46D7-A944-FB2498D5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254B-1CCF-40C7-8B64-252286381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6B41-3445-4598-B519-06B0FB74A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0DAB-BF27-47F1-9D64-85808D92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5155-E662-4735-83D4-28BE8D41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620A-E355-434D-AB8A-7E4CDD73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4515-DDF1-4B4B-9BFA-0F53EDCD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AD51-84A6-4323-8CD9-B8565E92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4E84-3098-4E9E-870B-325D4455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FB95-A624-4225-8F4C-FB25626A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23A9-5D3F-4828-921F-D842A8F0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224D-BC1B-413B-BC21-7C3A545A5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ahsin Isl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Tahsin 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Tahsin Islam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Tahsin Isla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Tahsin Isla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0" y="53341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Anger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Tahsin. Yo vivo en New York. Tengo trece años. Yo Tengo dos hermanos. Estoy muy Feliz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685800" y="533412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u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371600" y="541008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iri 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8" descr="Photo on 2011-10-21 at 13.53 #2.jpg"/>
          <p:cNvPicPr/>
          <p:nvPr/>
        </p:nvPicPr>
        <p:blipFill>
          <a:blip r:embed="rId1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0" descr="Photo on 2011-10-21 at 13.39 #2.jpg"/>
          <p:cNvPicPr/>
          <p:nvPr/>
        </p:nvPicPr>
        <p:blipFill>
          <a:blip r:embed="rId2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4" descr="Photo on 2011-10-21 at 13.53 #2.jpg"/>
          <p:cNvPicPr/>
          <p:nvPr/>
        </p:nvPicPr>
        <p:blipFill>
          <a:blip r:embed="rId3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819520" y="3276720"/>
            <a:ext cx="38862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ahsi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hh- Buenas Tardes, Angera,  Yo soy buena y emocionado! ¿Y tu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No Hay tarea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Gracias, yo soy aburrida 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8" descr="Photo on 2011-10-21 at 13.46.jpg"/>
          <p:cNvPicPr/>
          <p:nvPr/>
        </p:nvPicPr>
        <p:blipFill>
          <a:blip r:embed="rId4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nge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! ¿Como Estás? ¿Cual es la tare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9" descr="Photo on 2011-10-21 at 13.53 #2.jpg"/>
          <p:cNvPicPr/>
          <p:nvPr/>
        </p:nvPicPr>
        <p:blipFill>
          <a:blip r:embed="rId5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2" descr="Photo on 2011-10-21 at 13.46.jpg"/>
          <p:cNvPicPr/>
          <p:nvPr/>
        </p:nvPicPr>
        <p:blipFill>
          <a:blip r:embed="rId6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6" descr="Emily.jpg"/>
          <p:cNvPicPr/>
          <p:nvPr/>
        </p:nvPicPr>
        <p:blipFill>
          <a:blip r:embed="rId7"/>
          <a:stretch/>
        </p:blipFill>
        <p:spPr>
          <a:xfrm>
            <a:off x="1295280" y="4724280"/>
            <a:ext cx="7462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4T14:57:32Z</dcterms:modified>
  <cp:revision>108</cp:revision>
  <dc:subject/>
  <dc:title>Profile</dc:title>
</cp:coreProperties>
</file>